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118-A730-45C5-9A1C-034D484E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F36-5C65-4556-B044-5B629883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160-C0F4-4C62-B1D6-9BCF9010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D23-6A9B-4F6F-BDC5-8A03DD3F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C89-89FE-4FEF-9824-B9D1F2C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187-9F2F-46E8-8576-FDEC016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B1F-D03B-40A1-9565-E8875B5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491-7077-4D74-99E5-AF4CF5E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537-A066-4951-8DC6-E59F99BF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5E5-19C7-4A9B-9AEA-DEFFD02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C9C-2554-42F9-AC34-7CBAAD7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1A3-F27A-4E36-BAFB-04BBF91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EBC-AED0-4B3D-9AF2-8C67E8607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9880" y="133992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6960" y="2203560"/>
            <a:ext cx="6805800" cy="427500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2960" y="2492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2960" y="2492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669600" y="4608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539640" y="1125360"/>
            <a:ext cx="6620040" cy="10242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96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8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116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516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144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344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92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270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536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11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1792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360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416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188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764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2588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3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596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846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140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291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91120" y="211140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544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332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2284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0536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528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9600" y="211140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29320" y="211140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2480" y="2125800"/>
            <a:ext cx="196920" cy="25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064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9880" y="211140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99400" y="211140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70760" y="2125800"/>
            <a:ext cx="196920" cy="25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073400" y="4135320"/>
            <a:ext cx="590760" cy="1032120"/>
            <a:chOff x="4073400" y="4135320"/>
            <a:chExt cx="590760" cy="1032120"/>
          </a:xfrm>
        </p:grpSpPr>
        <p:sp>
          <p:nvSpPr>
            <p:cNvPr id="90" name=""/>
            <p:cNvSpPr/>
            <p:nvPr/>
          </p:nvSpPr>
          <p:spPr>
            <a:xfrm>
              <a:off x="4073400" y="4291560"/>
              <a:ext cx="590760" cy="87588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880"/>
                <a:gd name="textAreaBottom" fmla="*/ 857520 h 875880"/>
              </a:gdLst>
              <a:ahLst/>
              <a:rect l="textAreaLeft" t="textAreaTop" r="textAreaRight" b="textAreaBottom"/>
              <a:pathLst>
                <a:path w="21600" h="32019">
                  <a:moveTo>
                    <a:pt x="2325" y="0"/>
                  </a:moveTo>
                  <a:arcTo wR="2325" hR="2325" stAng="16200000" swAng="-5400000"/>
                  <a:lnTo>
                    <a:pt x="0" y="29694"/>
                  </a:lnTo>
                  <a:arcTo wR="2325" hR="2325" stAng="10800000" swAng="-5400000"/>
                  <a:lnTo>
                    <a:pt x="19275" y="32019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3400" y="4135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35320" y="443844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0640" y="4674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30640" y="491652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37640" y="4479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37640" y="4717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7640" y="49496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73440" y="3951360"/>
            <a:ext cx="525600" cy="1180800"/>
            <a:chOff x="6373440" y="3951360"/>
            <a:chExt cx="525600" cy="1180800"/>
          </a:xfrm>
        </p:grpSpPr>
        <p:sp>
          <p:nvSpPr>
            <p:cNvPr id="99" name=""/>
            <p:cNvSpPr/>
            <p:nvPr/>
          </p:nvSpPr>
          <p:spPr>
            <a:xfrm rot="10800000">
              <a:off x="6373440" y="448812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800" y="470376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2360" y="395136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73800" y="481068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480" y="481068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462360" y="481068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723000" y="481068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8760" y="406008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3720" y="406008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88280" y="4043160"/>
            <a:ext cx="473040" cy="565200"/>
            <a:chOff x="6488280" y="4043160"/>
            <a:chExt cx="473040" cy="565200"/>
          </a:xfrm>
        </p:grpSpPr>
        <p:sp>
          <p:nvSpPr>
            <p:cNvPr id="109" name=""/>
            <p:cNvSpPr/>
            <p:nvPr/>
          </p:nvSpPr>
          <p:spPr>
            <a:xfrm rot="10800000">
              <a:off x="6488280" y="404316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72960" y="428940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680520" y="4480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76240" y="2971800"/>
            <a:ext cx="1373400" cy="2914560"/>
            <a:chOff x="876240" y="2971800"/>
            <a:chExt cx="1373400" cy="2914560"/>
          </a:xfrm>
        </p:grpSpPr>
        <p:sp>
          <p:nvSpPr>
            <p:cNvPr id="113" name=""/>
            <p:cNvSpPr/>
            <p:nvPr/>
          </p:nvSpPr>
          <p:spPr>
            <a:xfrm>
              <a:off x="876240" y="3042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8400" y="3056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8400" y="5044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3080" y="5044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6240" y="4845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6240" y="4235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6240" y="3638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5360" y="5375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49520" y="5384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6240" y="3042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57480" y="3042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6240" y="2971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68400" y="3724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5480" y="3800520"/>
            <a:ext cx="139680" cy="42048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480"/>
              <a:gd name="textAreaBottom" fmla="*/ 416520 h 420480"/>
            </a:gdLst>
            <a:ahLst/>
            <a:rect l="textAreaLeft" t="textAreaTop" r="textAreaRight" b="textAreaBottom"/>
            <a:pathLst>
              <a:path w="21600" h="64911">
                <a:moveTo>
                  <a:pt x="2250" y="0"/>
                </a:moveTo>
                <a:arcTo wR="2250" hR="2250" stAng="16200000" swAng="-5400000"/>
                <a:lnTo>
                  <a:pt x="0" y="62661"/>
                </a:lnTo>
                <a:arcTo wR="2250" hR="2250" stAng="10800000" swAng="-5400000"/>
                <a:lnTo>
                  <a:pt x="19350" y="6491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5160" y="3724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3040" y="3710160"/>
            <a:ext cx="138240" cy="51084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0840"/>
              <a:gd name="textAreaBottom" fmla="*/ 506880 h 510840"/>
            </a:gdLst>
            <a:ahLst/>
            <a:rect l="textAreaLeft" t="textAreaTop" r="textAreaRight" b="textAreaBottom"/>
            <a:pathLst>
              <a:path w="21600" h="79668">
                <a:moveTo>
                  <a:pt x="2250" y="0"/>
                </a:moveTo>
                <a:arcTo wR="2250" hR="2250" stAng="16200000" swAng="-5400000"/>
                <a:lnTo>
                  <a:pt x="0" y="77418"/>
                </a:lnTo>
                <a:arcTo wR="2250" hR="2250" stAng="10800000" swAng="-5400000"/>
                <a:lnTo>
                  <a:pt x="19350" y="79668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232240" y="4322880"/>
            <a:ext cx="601920" cy="7729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4848120" y="4129200"/>
            <a:ext cx="1277640" cy="1009080"/>
            <a:chOff x="4848120" y="4129200"/>
            <a:chExt cx="1277640" cy="1009080"/>
          </a:xfrm>
        </p:grpSpPr>
        <p:sp>
          <p:nvSpPr>
            <p:cNvPr id="131" name=""/>
            <p:cNvSpPr/>
            <p:nvPr/>
          </p:nvSpPr>
          <p:spPr>
            <a:xfrm>
              <a:off x="4859640" y="4437720"/>
              <a:ext cx="103680" cy="7005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560"/>
                <a:gd name="textAreaBottom" fmla="*/ 697680 h 700560"/>
              </a:gdLst>
              <a:ahLst/>
              <a:rect l="textAreaLeft" t="textAreaTop" r="textAreaRight" b="textAreaBottom"/>
              <a:pathLst>
                <a:path w="21600" h="145520">
                  <a:moveTo>
                    <a:pt x="2250" y="0"/>
                  </a:moveTo>
                  <a:arcTo wR="2250" hR="2250" stAng="16200000" swAng="-5400000"/>
                  <a:lnTo>
                    <a:pt x="0" y="143270"/>
                  </a:lnTo>
                  <a:arcTo wR="2250" hR="2250" stAng="10800000" swAng="-5400000"/>
                  <a:lnTo>
                    <a:pt x="19350" y="14552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2080" y="4437720"/>
              <a:ext cx="103680" cy="7005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560"/>
                <a:gd name="textAreaBottom" fmla="*/ 697680 h 700560"/>
              </a:gdLst>
              <a:ahLst/>
              <a:rect l="textAreaLeft" t="textAreaTop" r="textAreaRight" b="textAreaBottom"/>
              <a:pathLst>
                <a:path w="21600" h="145520">
                  <a:moveTo>
                    <a:pt x="2250" y="0"/>
                  </a:moveTo>
                  <a:arcTo wR="2250" hR="2250" stAng="16200000" swAng="-5400000"/>
                  <a:lnTo>
                    <a:pt x="0" y="143270"/>
                  </a:lnTo>
                  <a:arcTo wR="2250" hR="2250" stAng="10800000" swAng="-5400000"/>
                  <a:lnTo>
                    <a:pt x="19350" y="14552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6200" y="4152600"/>
              <a:ext cx="103680" cy="6447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4760"/>
                <a:gd name="textAreaBottom" fmla="*/ 641880 h 644760"/>
              </a:gdLst>
              <a:ahLst/>
              <a:rect l="textAreaLeft" t="textAreaTop" r="textAreaRight" b="textAreaBottom"/>
              <a:pathLst>
                <a:path w="21600" h="133935">
                  <a:moveTo>
                    <a:pt x="2250" y="0"/>
                  </a:moveTo>
                  <a:arcTo wR="2250" hR="2250" stAng="16200000" swAng="-5400000"/>
                  <a:lnTo>
                    <a:pt x="0" y="131685"/>
                  </a:lnTo>
                  <a:arcTo wR="2250" hR="2250" stAng="10800000" swAng="-5400000"/>
                  <a:lnTo>
                    <a:pt x="19350" y="133935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41720" y="4129200"/>
              <a:ext cx="103680" cy="64476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4760"/>
                <a:gd name="textAreaBottom" fmla="*/ 641880 h 644760"/>
              </a:gdLst>
              <a:ahLst/>
              <a:rect l="textAreaLeft" t="textAreaTop" r="textAreaRight" b="textAreaBottom"/>
              <a:pathLst>
                <a:path w="21600" h="133935">
                  <a:moveTo>
                    <a:pt x="2250" y="0"/>
                  </a:moveTo>
                  <a:arcTo wR="2250" hR="2250" stAng="16200000" swAng="-5400000"/>
                  <a:lnTo>
                    <a:pt x="0" y="131685"/>
                  </a:lnTo>
                  <a:arcTo wR="2250" hR="2250" stAng="10800000" swAng="-5400000"/>
                  <a:lnTo>
                    <a:pt x="19350" y="133935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9640" y="4347720"/>
              <a:ext cx="1266120" cy="8964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48120" y="413460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74960" y="3021120"/>
            <a:ext cx="593640" cy="695160"/>
            <a:chOff x="2874960" y="3021120"/>
            <a:chExt cx="593640" cy="695160"/>
          </a:xfrm>
        </p:grpSpPr>
        <p:sp>
          <p:nvSpPr>
            <p:cNvPr id="138" name=""/>
            <p:cNvSpPr/>
            <p:nvPr/>
          </p:nvSpPr>
          <p:spPr>
            <a:xfrm>
              <a:off x="2874960" y="3021120"/>
              <a:ext cx="593640" cy="69516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160"/>
                <a:gd name="textAreaBottom" fmla="*/ 666360 h 695160"/>
              </a:gdLst>
              <a:ahLst/>
              <a:rect l="textAreaLeft" t="textAreaTop" r="textAreaRight" b="textAreaBottom"/>
              <a:pathLst>
                <a:path w="21600" h="25292">
                  <a:moveTo>
                    <a:pt x="3600" y="0"/>
                  </a:moveTo>
                  <a:arcTo wR="3600" hR="3600" stAng="16200000" swAng="-5400000"/>
                  <a:lnTo>
                    <a:pt x="0" y="21692"/>
                  </a:lnTo>
                  <a:arcTo wR="3600" hR="3600" stAng="10800000" swAng="-5400000"/>
                  <a:lnTo>
                    <a:pt x="18000" y="25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0920" y="310608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2996640" y="3182760"/>
              <a:ext cx="344160" cy="34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1881360" y="3129120"/>
            <a:ext cx="137880" cy="51084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0840"/>
              <a:gd name="textAreaBottom" fmla="*/ 506880 h 510840"/>
            </a:gdLst>
            <a:ahLst/>
            <a:rect l="textAreaLeft" t="textAreaTop" r="textAreaRight" b="textAreaBottom"/>
            <a:pathLst>
              <a:path w="21600" h="79875">
                <a:moveTo>
                  <a:pt x="2250" y="0"/>
                </a:moveTo>
                <a:arcTo wR="2250" hR="2250" stAng="16200000" swAng="-5400000"/>
                <a:lnTo>
                  <a:pt x="0" y="77625"/>
                </a:lnTo>
                <a:arcTo wR="2250" hR="2250" stAng="10800000" swAng="-5400000"/>
                <a:lnTo>
                  <a:pt x="19350" y="79875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9240" y="311472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 rot="15987000">
            <a:off x="2524680" y="5308920"/>
            <a:ext cx="878040" cy="885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 rot="9263400">
            <a:off x="3160800" y="5313240"/>
            <a:ext cx="676080" cy="74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145040" y="3917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 rot="772200">
            <a:off x="3161880" y="3355560"/>
            <a:ext cx="8143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411280" y="3965400"/>
            <a:ext cx="1557360" cy="1931760"/>
            <a:chOff x="2411280" y="3965400"/>
            <a:chExt cx="1557360" cy="1931760"/>
          </a:xfrm>
        </p:grpSpPr>
        <p:sp>
          <p:nvSpPr>
            <p:cNvPr id="148" name=""/>
            <p:cNvSpPr/>
            <p:nvPr/>
          </p:nvSpPr>
          <p:spPr>
            <a:xfrm rot="16200000">
              <a:off x="2855520" y="3717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2445840" y="4645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843640" y="4607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1280" y="5029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4960" y="5033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7480" y="4018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3320" y="4021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4273560"/>
            <a:ext cx="610920" cy="5954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033880" y="5405400"/>
            <a:ext cx="1225440" cy="537840"/>
            <a:chOff x="5033880" y="5405400"/>
            <a:chExt cx="1225440" cy="537840"/>
          </a:xfrm>
        </p:grpSpPr>
        <p:sp>
          <p:nvSpPr>
            <p:cNvPr id="157" name=""/>
            <p:cNvSpPr/>
            <p:nvPr/>
          </p:nvSpPr>
          <p:spPr>
            <a:xfrm>
              <a:off x="5211000" y="5405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33880" y="5405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2200" y="5405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2440" y="5405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5320" y="5405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360" y="5405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720600">
            <a:off x="1372680" y="3384360"/>
            <a:ext cx="457200" cy="309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1101600" y="4381560"/>
            <a:ext cx="282600" cy="428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20594400">
            <a:off x="4075200" y="5294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1019160" y="3090960"/>
            <a:ext cx="365040" cy="52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41320" y="4403880"/>
            <a:ext cx="140040" cy="42048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480"/>
              <a:gd name="textAreaBottom" fmla="*/ 416520 h 420480"/>
            </a:gdLst>
            <a:ahLst/>
            <a:rect l="textAreaLeft" t="textAreaTop" r="textAreaRight" b="textAreaBottom"/>
            <a:pathLst>
              <a:path w="21600" h="64745">
                <a:moveTo>
                  <a:pt x="2250" y="0"/>
                </a:moveTo>
                <a:arcTo wR="2250" hR="2250" stAng="16200000" swAng="-5400000"/>
                <a:lnTo>
                  <a:pt x="0" y="62495"/>
                </a:lnTo>
                <a:arcTo wR="2250" hR="2250" stAng="10800000" swAng="-5400000"/>
                <a:lnTo>
                  <a:pt x="19350" y="64745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81360" y="43275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19240" y="4313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1"/>
          <a:stretch/>
        </p:blipFill>
        <p:spPr>
          <a:xfrm>
            <a:off x="5106960" y="2924280"/>
            <a:ext cx="855720" cy="749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8600" y="133992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73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79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4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85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90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 rot="1245000">
            <a:off x="7719840" y="5573880"/>
            <a:ext cx="79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260280"/>
            <a:ext cx="68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orte"/>
              </a:rPr>
              <a:t>Sally's Messy Roo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orte"/>
              <a:ea typeface="Forte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9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43280" y="5229360"/>
            <a:ext cx="7207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L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9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0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573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582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592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596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613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614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621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3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4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630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631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8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640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6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649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656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0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661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662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6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667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668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2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673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4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5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677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1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682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adio is 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3851280" y="602136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686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688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75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7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67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7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4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5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738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747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757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761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778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779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786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8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9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792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793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794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795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796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3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804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805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1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812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813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814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819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821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5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26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827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1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832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833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7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838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39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40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842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6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847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t-shirts are __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995640" y="602136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851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853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84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84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839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83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9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0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903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912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922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926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2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943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944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951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3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4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958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959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960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961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8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969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970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6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977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978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979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980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984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986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0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991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992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6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997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998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2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03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4" name=""/>
          <p:cNvSpPr txBox="1"/>
          <p:nvPr/>
        </p:nvSpPr>
        <p:spPr>
          <a:xfrm rot="20512200">
            <a:off x="7596000" y="3933720"/>
            <a:ext cx="9302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5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2007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1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012" name=""/>
          <p:cNvSpPr txBox="1"/>
          <p:nvPr/>
        </p:nvSpPr>
        <p:spPr>
          <a:xfrm rot="20512200">
            <a:off x="7554960" y="836640"/>
            <a:ext cx="95724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250920" y="595008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ookcase is _______ of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3419640" y="6021360"/>
            <a:ext cx="1585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 the 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015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2016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018" name=""/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 rot="20512200">
            <a:off x="7884720" y="4294080"/>
            <a:ext cx="712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20" name=""/>
          <p:cNvSpPr txBox="1"/>
          <p:nvPr/>
        </p:nvSpPr>
        <p:spPr>
          <a:xfrm rot="20512200">
            <a:off x="7812000" y="1197000"/>
            <a:ext cx="73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01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01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05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0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003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003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02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02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25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26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27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27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29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29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30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31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33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34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4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34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5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53" name=""/>
          <p:cNvSpPr txBox="1"/>
          <p:nvPr/>
        </p:nvSpPr>
        <p:spPr>
          <a:xfrm rot="1072200">
            <a:off x="7668720" y="5575320"/>
            <a:ext cx="8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35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6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5950080"/>
            <a:ext cx="61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umbrella is _______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635280" y="5924520"/>
            <a:ext cx="100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36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41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42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43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43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45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46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47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48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49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50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50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51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51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1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17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1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52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2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shoes are _____ the bedside tabl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132000" y="6093000"/>
            <a:ext cx="43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52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58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59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60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60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62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62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63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64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64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66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66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67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67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67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68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82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83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68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690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computer is _______ the desk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780000" y="595008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69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74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75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76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76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78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78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79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80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80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81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82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83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83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84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84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84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7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85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85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68360" y="595008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lobe is _______ the bookcas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346560" y="5950080"/>
            <a:ext cx="288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85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91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92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93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93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95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95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96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97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97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99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99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00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00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00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011" name=""/>
          <p:cNvSpPr txBox="1"/>
          <p:nvPr/>
        </p:nvSpPr>
        <p:spPr>
          <a:xfrm rot="1245000">
            <a:off x="7648200" y="2489040"/>
            <a:ext cx="949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12" name=""/>
          <p:cNvSpPr txBox="1"/>
          <p:nvPr/>
        </p:nvSpPr>
        <p:spPr>
          <a:xfrm rot="20512200">
            <a:off x="7943760" y="41605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13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015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020" name=""/>
          <p:cNvSpPr txBox="1"/>
          <p:nvPr/>
        </p:nvSpPr>
        <p:spPr>
          <a:xfrm rot="20512200">
            <a:off x="7596000" y="980640"/>
            <a:ext cx="94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24000" y="595008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lasses are _______ the books and the glob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627280" y="5950080"/>
            <a:ext cx="100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betw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024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076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085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095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099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116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117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124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133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134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1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142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143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159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3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164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165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9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170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171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5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176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7" name=""/>
          <p:cNvSpPr txBox="1"/>
          <p:nvPr/>
        </p:nvSpPr>
        <p:spPr>
          <a:xfrm rot="20512200">
            <a:off x="7667280" y="4160880"/>
            <a:ext cx="9302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b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8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180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4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185" name=""/>
          <p:cNvSpPr txBox="1"/>
          <p:nvPr/>
        </p:nvSpPr>
        <p:spPr>
          <a:xfrm rot="20512200">
            <a:off x="7740720" y="1052280"/>
            <a:ext cx="718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68360" y="5950080"/>
            <a:ext cx="64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map is _____ the desk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492360" y="609300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ab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189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7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7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7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241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250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260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264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281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282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289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298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299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6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307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308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4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324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8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329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330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4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335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336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0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341" name=""/>
          <p:cNvSpPr txBox="1"/>
          <p:nvPr/>
        </p:nvSpPr>
        <p:spPr>
          <a:xfrm rot="1245000">
            <a:off x="7956360" y="249228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42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344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8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349" name=""/>
          <p:cNvSpPr txBox="1"/>
          <p:nvPr/>
        </p:nvSpPr>
        <p:spPr>
          <a:xfrm rot="20512200">
            <a:off x="7596360" y="3933720"/>
            <a:ext cx="957240" cy="4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50920" y="595008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edside table is _______ of the be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778200" y="6021360"/>
            <a:ext cx="15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on the 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353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355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 rot="20512200">
            <a:off x="7884720" y="4376520"/>
            <a:ext cx="6476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7" name=""/>
          <p:cNvSpPr txBox="1"/>
          <p:nvPr/>
        </p:nvSpPr>
        <p:spPr>
          <a:xfrm rot="20512200">
            <a:off x="7529040" y="836640"/>
            <a:ext cx="9302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 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58" name=""/>
          <p:cNvSpPr txBox="1"/>
          <p:nvPr/>
        </p:nvSpPr>
        <p:spPr>
          <a:xfrm rot="20512200">
            <a:off x="7746480" y="1217160"/>
            <a:ext cx="857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34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34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341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341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08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69880" y="547560"/>
            <a:ext cx="863640" cy="79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26960" y="1411200"/>
            <a:ext cx="6805800" cy="42753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2960" y="1700280"/>
            <a:ext cx="6408720" cy="377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42960" y="1700280"/>
            <a:ext cx="6408720" cy="21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4" name=""/>
          <p:cNvCxnSpPr/>
          <p:nvPr/>
        </p:nvCxnSpPr>
        <p:spPr>
          <a:xfrm>
            <a:off x="669600" y="3816000"/>
            <a:ext cx="636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5" name=""/>
          <p:cNvSpPr/>
          <p:nvPr/>
        </p:nvSpPr>
        <p:spPr>
          <a:xfrm>
            <a:off x="539640" y="333360"/>
            <a:ext cx="6620040" cy="10238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269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428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50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9111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0954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3516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441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60344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7892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270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1337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29536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81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61792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825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9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1957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333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416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0188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8764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02588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233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39596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5846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7214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9291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091120" y="1319040"/>
            <a:ext cx="2649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27544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41332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62284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80536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97528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159600" y="1319040"/>
            <a:ext cx="26676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2160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29320" y="1319040"/>
            <a:ext cx="2653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70248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95280" y="5272200"/>
            <a:ext cx="6872400" cy="460440"/>
          </a:xfrm>
          <a:custGeom>
            <a:avLst/>
            <a:gdLst/>
            <a:ahLst/>
            <a:rect l="l" t="t" r="r" b="b"/>
            <a:pathLst>
              <a:path w="8280" h="487">
                <a:moveTo>
                  <a:pt x="0" y="426"/>
                </a:moveTo>
                <a:cubicBezTo>
                  <a:pt x="94" y="371"/>
                  <a:pt x="188" y="317"/>
                  <a:pt x="225" y="256"/>
                </a:cubicBezTo>
                <a:cubicBezTo>
                  <a:pt x="262" y="195"/>
                  <a:pt x="178" y="33"/>
                  <a:pt x="225" y="61"/>
                </a:cubicBezTo>
                <a:cubicBezTo>
                  <a:pt x="272" y="89"/>
                  <a:pt x="417" y="393"/>
                  <a:pt x="510" y="426"/>
                </a:cubicBezTo>
                <a:cubicBezTo>
                  <a:pt x="603" y="459"/>
                  <a:pt x="683" y="297"/>
                  <a:pt x="780" y="256"/>
                </a:cubicBezTo>
                <a:cubicBezTo>
                  <a:pt x="877" y="215"/>
                  <a:pt x="1083" y="153"/>
                  <a:pt x="1095" y="181"/>
                </a:cubicBezTo>
                <a:cubicBezTo>
                  <a:pt x="1107" y="209"/>
                  <a:pt x="800" y="385"/>
                  <a:pt x="855" y="426"/>
                </a:cubicBezTo>
                <a:cubicBezTo>
                  <a:pt x="910" y="467"/>
                  <a:pt x="1248" y="454"/>
                  <a:pt x="1425" y="426"/>
                </a:cubicBezTo>
                <a:cubicBezTo>
                  <a:pt x="1602" y="398"/>
                  <a:pt x="1825" y="297"/>
                  <a:pt x="1920" y="256"/>
                </a:cubicBezTo>
                <a:cubicBezTo>
                  <a:pt x="2015" y="215"/>
                  <a:pt x="1965" y="153"/>
                  <a:pt x="1995" y="181"/>
                </a:cubicBezTo>
                <a:cubicBezTo>
                  <a:pt x="2025" y="209"/>
                  <a:pt x="1998" y="414"/>
                  <a:pt x="2100" y="426"/>
                </a:cubicBezTo>
                <a:cubicBezTo>
                  <a:pt x="2202" y="438"/>
                  <a:pt x="2477" y="297"/>
                  <a:pt x="2610" y="256"/>
                </a:cubicBezTo>
                <a:cubicBezTo>
                  <a:pt x="2743" y="215"/>
                  <a:pt x="2870" y="153"/>
                  <a:pt x="2895" y="181"/>
                </a:cubicBezTo>
                <a:cubicBezTo>
                  <a:pt x="2920" y="209"/>
                  <a:pt x="2540" y="385"/>
                  <a:pt x="2760" y="426"/>
                </a:cubicBezTo>
                <a:cubicBezTo>
                  <a:pt x="2980" y="467"/>
                  <a:pt x="4003" y="467"/>
                  <a:pt x="4215" y="426"/>
                </a:cubicBezTo>
                <a:cubicBezTo>
                  <a:pt x="4427" y="385"/>
                  <a:pt x="4007" y="209"/>
                  <a:pt x="4035" y="181"/>
                </a:cubicBezTo>
                <a:cubicBezTo>
                  <a:pt x="4063" y="153"/>
                  <a:pt x="4293" y="215"/>
                  <a:pt x="4380" y="256"/>
                </a:cubicBezTo>
                <a:cubicBezTo>
                  <a:pt x="4467" y="297"/>
                  <a:pt x="4508" y="438"/>
                  <a:pt x="4560" y="426"/>
                </a:cubicBezTo>
                <a:cubicBezTo>
                  <a:pt x="4612" y="414"/>
                  <a:pt x="4638" y="242"/>
                  <a:pt x="4695" y="181"/>
                </a:cubicBezTo>
                <a:cubicBezTo>
                  <a:pt x="4752" y="120"/>
                  <a:pt x="4900" y="20"/>
                  <a:pt x="4905" y="61"/>
                </a:cubicBezTo>
                <a:cubicBezTo>
                  <a:pt x="4910" y="102"/>
                  <a:pt x="4680" y="406"/>
                  <a:pt x="4725" y="426"/>
                </a:cubicBezTo>
                <a:cubicBezTo>
                  <a:pt x="4770" y="446"/>
                  <a:pt x="5100" y="242"/>
                  <a:pt x="5175" y="181"/>
                </a:cubicBezTo>
                <a:cubicBezTo>
                  <a:pt x="5250" y="120"/>
                  <a:pt x="5157" y="81"/>
                  <a:pt x="5175" y="61"/>
                </a:cubicBezTo>
                <a:cubicBezTo>
                  <a:pt x="5193" y="41"/>
                  <a:pt x="5251" y="13"/>
                  <a:pt x="5286" y="61"/>
                </a:cubicBezTo>
                <a:cubicBezTo>
                  <a:pt x="5321" y="109"/>
                  <a:pt x="5328" y="319"/>
                  <a:pt x="5385" y="351"/>
                </a:cubicBezTo>
                <a:cubicBezTo>
                  <a:pt x="5442" y="383"/>
                  <a:pt x="5560" y="284"/>
                  <a:pt x="5631" y="256"/>
                </a:cubicBezTo>
                <a:cubicBezTo>
                  <a:pt x="5702" y="228"/>
                  <a:pt x="5760" y="193"/>
                  <a:pt x="5811" y="181"/>
                </a:cubicBezTo>
                <a:cubicBezTo>
                  <a:pt x="5862" y="169"/>
                  <a:pt x="5919" y="155"/>
                  <a:pt x="5940" y="181"/>
                </a:cubicBezTo>
                <a:cubicBezTo>
                  <a:pt x="5961" y="207"/>
                  <a:pt x="5939" y="295"/>
                  <a:pt x="5940" y="336"/>
                </a:cubicBezTo>
                <a:cubicBezTo>
                  <a:pt x="5941" y="377"/>
                  <a:pt x="5888" y="439"/>
                  <a:pt x="5946" y="426"/>
                </a:cubicBezTo>
                <a:cubicBezTo>
                  <a:pt x="6004" y="413"/>
                  <a:pt x="6221" y="317"/>
                  <a:pt x="6291" y="256"/>
                </a:cubicBezTo>
                <a:cubicBezTo>
                  <a:pt x="6361" y="195"/>
                  <a:pt x="6327" y="33"/>
                  <a:pt x="6366" y="61"/>
                </a:cubicBezTo>
                <a:cubicBezTo>
                  <a:pt x="6405" y="89"/>
                  <a:pt x="6360" y="365"/>
                  <a:pt x="6525" y="426"/>
                </a:cubicBezTo>
                <a:cubicBezTo>
                  <a:pt x="6690" y="487"/>
                  <a:pt x="7202" y="487"/>
                  <a:pt x="7354" y="426"/>
                </a:cubicBezTo>
                <a:cubicBezTo>
                  <a:pt x="7506" y="365"/>
                  <a:pt x="7371" y="61"/>
                  <a:pt x="7440" y="61"/>
                </a:cubicBezTo>
                <a:cubicBezTo>
                  <a:pt x="7509" y="61"/>
                  <a:pt x="7695" y="426"/>
                  <a:pt x="7770" y="426"/>
                </a:cubicBezTo>
                <a:cubicBezTo>
                  <a:pt x="7845" y="426"/>
                  <a:pt x="7849" y="122"/>
                  <a:pt x="7890" y="61"/>
                </a:cubicBezTo>
                <a:cubicBezTo>
                  <a:pt x="7931" y="0"/>
                  <a:pt x="8016" y="0"/>
                  <a:pt x="8016" y="61"/>
                </a:cubicBezTo>
                <a:cubicBezTo>
                  <a:pt x="8016" y="122"/>
                  <a:pt x="7866" y="406"/>
                  <a:pt x="7890" y="426"/>
                </a:cubicBezTo>
                <a:cubicBezTo>
                  <a:pt x="7914" y="446"/>
                  <a:pt x="8095" y="181"/>
                  <a:pt x="8160" y="181"/>
                </a:cubicBezTo>
                <a:cubicBezTo>
                  <a:pt x="8225" y="181"/>
                  <a:pt x="8252" y="303"/>
                  <a:pt x="8280" y="426"/>
                </a:cubicBezTo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689880" y="1319040"/>
            <a:ext cx="26640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899400" y="1319040"/>
            <a:ext cx="2635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070760" y="1333440"/>
            <a:ext cx="196920" cy="25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4073400" y="3343320"/>
            <a:ext cx="590760" cy="1031760"/>
            <a:chOff x="4073400" y="3343320"/>
            <a:chExt cx="590760" cy="1031760"/>
          </a:xfrm>
        </p:grpSpPr>
        <p:sp>
          <p:nvSpPr>
            <p:cNvPr id="1408" name=""/>
            <p:cNvSpPr/>
            <p:nvPr/>
          </p:nvSpPr>
          <p:spPr>
            <a:xfrm>
              <a:off x="4073400" y="3499560"/>
              <a:ext cx="590760" cy="875520"/>
            </a:xfrm>
            <a:custGeom>
              <a:avLst/>
              <a:gdLst>
                <a:gd name="textAreaLeft" fmla="*/ 18360 w 590760"/>
                <a:gd name="textAreaRight" fmla="*/ 572400 w 590760"/>
                <a:gd name="textAreaTop" fmla="*/ 18360 h 875520"/>
                <a:gd name="textAreaBottom" fmla="*/ 857160 h 875520"/>
              </a:gdLst>
              <a:ahLst/>
              <a:rect l="textAreaLeft" t="textAreaTop" r="textAreaRight" b="textAreaBottom"/>
              <a:pathLst>
                <a:path w="21600" h="32005">
                  <a:moveTo>
                    <a:pt x="2325" y="0"/>
                  </a:moveTo>
                  <a:arcTo wR="2325" hR="2325" stAng="16200000" swAng="-5400000"/>
                  <a:lnTo>
                    <a:pt x="0" y="29680"/>
                  </a:lnTo>
                  <a:arcTo wR="2325" hR="2325" stAng="10800000" swAng="-5400000"/>
                  <a:lnTo>
                    <a:pt x="19275" y="32005"/>
                  </a:lnTo>
                  <a:arcTo wR="2325" hR="2325" stAng="5400000" swAng="-5400000"/>
                  <a:lnTo>
                    <a:pt x="21600" y="2325"/>
                  </a:lnTo>
                  <a:arcTo wR="2325" hR="2325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4073400" y="3343320"/>
              <a:ext cx="590760" cy="213120"/>
            </a:xfrm>
            <a:custGeom>
              <a:avLst/>
              <a:gdLst>
                <a:gd name="textAreaLeft" fmla="*/ 97560 w 590760"/>
                <a:gd name="textAreaRight" fmla="*/ 493200 w 5907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135320" y="3646080"/>
              <a:ext cx="471240" cy="16524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130640" y="38829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30640" y="4124160"/>
              <a:ext cx="471240" cy="165600"/>
            </a:xfrm>
            <a:prstGeom prst="roundRect">
              <a:avLst>
                <a:gd name="adj" fmla="val 10417"/>
              </a:avLst>
            </a:pr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7640" y="36878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37640" y="392544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37640" y="4157280"/>
              <a:ext cx="8028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6373440" y="3159000"/>
            <a:ext cx="525600" cy="1180800"/>
            <a:chOff x="6373440" y="3159000"/>
            <a:chExt cx="525600" cy="1180800"/>
          </a:xfrm>
        </p:grpSpPr>
        <p:sp>
          <p:nvSpPr>
            <p:cNvPr id="1417" name=""/>
            <p:cNvSpPr/>
            <p:nvPr/>
          </p:nvSpPr>
          <p:spPr>
            <a:xfrm rot="10800000">
              <a:off x="6373440" y="3695760"/>
              <a:ext cx="523080" cy="214920"/>
            </a:xfrm>
            <a:custGeom>
              <a:avLst/>
              <a:gdLst>
                <a:gd name="textAreaLeft" fmla="*/ 92160 w 523080"/>
                <a:gd name="textAreaRight" fmla="*/ 430920 w 523080"/>
                <a:gd name="textAreaTop" fmla="*/ 37800 h 214920"/>
                <a:gd name="textAreaBottom" fmla="*/ 177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01" y="21600"/>
                  </a:lnTo>
                  <a:lnTo>
                    <a:pt x="3699" y="21600"/>
                  </a:lnTo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73800" y="3911400"/>
              <a:ext cx="525240" cy="106560"/>
            </a:xfrm>
            <a:prstGeom prst="roundRect">
              <a:avLst>
                <a:gd name="adj" fmla="val 7694"/>
              </a:avLst>
            </a:pr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62360" y="3159000"/>
              <a:ext cx="348120" cy="534960"/>
            </a:xfrm>
            <a:custGeom>
              <a:avLst/>
              <a:gdLst>
                <a:gd name="textAreaLeft" fmla="*/ 7560 w 348120"/>
                <a:gd name="textAreaRight" fmla="*/ 340560 w 348120"/>
                <a:gd name="textAreaTop" fmla="*/ 7560 h 534960"/>
                <a:gd name="textAreaBottom" fmla="*/ 527400 h 534960"/>
              </a:gdLst>
              <a:ahLst/>
              <a:rect l="textAreaLeft" t="textAreaTop" r="textAreaRight" b="textAreaBottom"/>
              <a:pathLst>
                <a:path w="21600" h="33181">
                  <a:moveTo>
                    <a:pt x="1662" y="0"/>
                  </a:moveTo>
                  <a:arcTo wR="1662" hR="1662" stAng="16200000" swAng="-5400000"/>
                  <a:lnTo>
                    <a:pt x="0" y="31519"/>
                  </a:lnTo>
                  <a:arcTo wR="1662" hR="1662" stAng="10800000" swAng="-5400000"/>
                  <a:lnTo>
                    <a:pt x="19938" y="33181"/>
                  </a:lnTo>
                  <a:arcTo wR="1662" hR="1662" stAng="5400000" swAng="-5400000"/>
                  <a:lnTo>
                    <a:pt x="21600" y="1662"/>
                  </a:lnTo>
                  <a:arcTo wR="1662" hR="1662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37380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10480" y="4018320"/>
              <a:ext cx="88560" cy="32148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321480"/>
                <a:gd name="textAreaBottom" fmla="*/ 317160 h 321480"/>
              </a:gdLst>
              <a:ahLst/>
              <a:rect l="textAreaLeft" t="textAreaTop" r="textAreaRight" b="textAreaBottom"/>
              <a:pathLst>
                <a:path w="21600" h="78180">
                  <a:moveTo>
                    <a:pt x="3600" y="0"/>
                  </a:moveTo>
                  <a:arcTo wR="3600" hR="3600" stAng="16200000" swAng="-5400000"/>
                  <a:lnTo>
                    <a:pt x="0" y="74580"/>
                  </a:lnTo>
                  <a:arcTo wR="3600" hR="3600" stAng="10800000" swAng="-5400000"/>
                  <a:lnTo>
                    <a:pt x="18000" y="7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462360" y="4018320"/>
              <a:ext cx="86400" cy="214920"/>
            </a:xfrm>
            <a:custGeom>
              <a:avLst/>
              <a:gdLst>
                <a:gd name="textAreaLeft" fmla="*/ 3960 w 86400"/>
                <a:gd name="textAreaRight" fmla="*/ 82440 w 8640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597">
                  <a:moveTo>
                    <a:pt x="3600" y="0"/>
                  </a:moveTo>
                  <a:arcTo wR="3600" hR="3600" stAng="16200000" swAng="-5400000"/>
                  <a:lnTo>
                    <a:pt x="0" y="49997"/>
                  </a:lnTo>
                  <a:arcTo wR="3600" hR="3600" stAng="10800000" swAng="-5400000"/>
                  <a:lnTo>
                    <a:pt x="18000" y="53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723000" y="4018320"/>
              <a:ext cx="86760" cy="21492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214920"/>
                <a:gd name="textAreaBottom" fmla="*/ 210960 h 214920"/>
              </a:gdLst>
              <a:ahLst/>
              <a:rect l="textAreaLeft" t="textAreaTop" r="textAreaRight" b="textAreaBottom"/>
              <a:pathLst>
                <a:path w="21600" h="53375">
                  <a:moveTo>
                    <a:pt x="3600" y="0"/>
                  </a:moveTo>
                  <a:arcTo wR="3600" hR="3600" stAng="16200000" swAng="-5400000"/>
                  <a:lnTo>
                    <a:pt x="0" y="49775"/>
                  </a:lnTo>
                  <a:arcTo wR="3600" hR="3600" stAng="10800000" swAng="-5400000"/>
                  <a:lnTo>
                    <a:pt x="18000" y="53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773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4876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23720" y="3267720"/>
              <a:ext cx="0" cy="321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488280" y="3250800"/>
            <a:ext cx="473040" cy="565560"/>
            <a:chOff x="6488280" y="3250800"/>
            <a:chExt cx="473040" cy="565560"/>
          </a:xfrm>
        </p:grpSpPr>
        <p:sp>
          <p:nvSpPr>
            <p:cNvPr id="1427" name=""/>
            <p:cNvSpPr/>
            <p:nvPr/>
          </p:nvSpPr>
          <p:spPr>
            <a:xfrm rot="10800000">
              <a:off x="6488280" y="3250800"/>
              <a:ext cx="473040" cy="245880"/>
            </a:xfrm>
            <a:custGeom>
              <a:avLst/>
              <a:gdLst>
                <a:gd name="textAreaLeft" fmla="*/ 104040 w 473040"/>
                <a:gd name="textAreaRight" fmla="*/ 369000 w 473040"/>
                <a:gd name="textAreaTop" fmla="*/ 54000 h 245880"/>
                <a:gd name="textAreaBottom" fmla="*/ 191880 h 24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72960" y="3497040"/>
              <a:ext cx="80640" cy="24696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246960"/>
                <a:gd name="textAreaBottom" fmla="*/ 244800 h 246960"/>
              </a:gdLst>
              <a:ahLst/>
              <a:rect l="textAreaLeft" t="textAreaTop" r="textAreaRight" b="textAreaBottom"/>
              <a:pathLst>
                <a:path w="21600" h="65952">
                  <a:moveTo>
                    <a:pt x="2250" y="0"/>
                  </a:moveTo>
                  <a:arcTo wR="2250" hR="2250" stAng="16200000" swAng="-5400000"/>
                  <a:lnTo>
                    <a:pt x="0" y="63702"/>
                  </a:lnTo>
                  <a:arcTo wR="2250" hR="2250" stAng="10800000" swAng="-5400000"/>
                  <a:lnTo>
                    <a:pt x="19350" y="659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6200000">
              <a:off x="6680520" y="3688200"/>
              <a:ext cx="72000" cy="184320"/>
            </a:xfrm>
            <a:prstGeom prst="flowChartDelay">
              <a:avLst/>
            </a:pr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876240" y="2179800"/>
            <a:ext cx="1373400" cy="2914560"/>
            <a:chOff x="876240" y="2179800"/>
            <a:chExt cx="1373400" cy="2914560"/>
          </a:xfrm>
        </p:grpSpPr>
        <p:sp>
          <p:nvSpPr>
            <p:cNvPr id="1431" name=""/>
            <p:cNvSpPr/>
            <p:nvPr/>
          </p:nvSpPr>
          <p:spPr>
            <a:xfrm>
              <a:off x="876240" y="2250720"/>
              <a:ext cx="1373400" cy="2843640"/>
            </a:xfrm>
            <a:custGeom>
              <a:avLst/>
              <a:gdLst>
                <a:gd name="textAreaLeft" fmla="*/ 6840 w 1373400"/>
                <a:gd name="textAreaRight" fmla="*/ 1366560 w 1373400"/>
                <a:gd name="textAreaTop" fmla="*/ 6840 h 2843640"/>
                <a:gd name="textAreaBottom" fmla="*/ 2836800 h 2843640"/>
              </a:gdLst>
              <a:ahLst/>
              <a:rect l="textAreaLeft" t="textAreaTop" r="textAreaRight" b="textAreaBottom"/>
              <a:pathLst>
                <a:path w="21600" h="44717">
                  <a:moveTo>
                    <a:pt x="386" y="0"/>
                  </a:moveTo>
                  <a:arcTo wR="386" hR="386" stAng="16200000" swAng="-5400000"/>
                  <a:lnTo>
                    <a:pt x="0" y="44331"/>
                  </a:lnTo>
                  <a:arcTo wR="386" hR="386" stAng="10800000" swAng="-5400000"/>
                  <a:lnTo>
                    <a:pt x="21214" y="44717"/>
                  </a:lnTo>
                  <a:arcTo wR="386" hR="386" stAng="5400000" swAng="-5400000"/>
                  <a:lnTo>
                    <a:pt x="21600" y="386"/>
                  </a:lnTo>
                  <a:arcTo wR="386" hR="386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68400" y="2264760"/>
              <a:ext cx="1188720" cy="176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6840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03080" y="4252320"/>
              <a:ext cx="554040" cy="738000"/>
            </a:xfrm>
            <a:custGeom>
              <a:avLst/>
              <a:gdLst>
                <a:gd name="textAreaLeft" fmla="*/ 16560 w 554040"/>
                <a:gd name="textAreaRight" fmla="*/ 537480 w 554040"/>
                <a:gd name="textAreaTop" fmla="*/ 16560 h 738000"/>
                <a:gd name="textAreaBottom" fmla="*/ 721440 h 738000"/>
              </a:gdLst>
              <a:ahLst/>
              <a:rect l="textAreaLeft" t="textAreaTop" r="textAreaRight" b="textAreaBottom"/>
              <a:pathLst>
                <a:path w="21600" h="28767">
                  <a:moveTo>
                    <a:pt x="2250" y="0"/>
                  </a:moveTo>
                  <a:arcTo wR="2250" hR="2250" stAng="16200000" swAng="-5400000"/>
                  <a:lnTo>
                    <a:pt x="0" y="26517"/>
                  </a:lnTo>
                  <a:arcTo wR="2250" hR="2250" stAng="10800000" swAng="-5400000"/>
                  <a:lnTo>
                    <a:pt x="19350" y="2876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cc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76240" y="40536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76240" y="344304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76240" y="284688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95360" y="458352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649520" y="4592880"/>
              <a:ext cx="80640" cy="8028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7624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7480" y="2250720"/>
              <a:ext cx="92160" cy="1794960"/>
            </a:xfrm>
            <a:custGeom>
              <a:avLst/>
              <a:gdLst>
                <a:gd name="textAreaLeft" fmla="*/ 2520 w 92160"/>
                <a:gd name="textAreaRight" fmla="*/ 89640 w 92160"/>
                <a:gd name="textAreaTop" fmla="*/ 2520 h 1794960"/>
                <a:gd name="textAreaBottom" fmla="*/ 1792440 h 1794960"/>
              </a:gdLst>
              <a:ahLst/>
              <a:rect l="textAreaLeft" t="textAreaTop" r="textAreaRight" b="textAreaBottom"/>
              <a:pathLst>
                <a:path w="21600" h="419141">
                  <a:moveTo>
                    <a:pt x="2250" y="0"/>
                  </a:moveTo>
                  <a:arcTo wR="2250" hR="2250" stAng="16200000" swAng="-5400000"/>
                  <a:lnTo>
                    <a:pt x="0" y="416891"/>
                  </a:lnTo>
                  <a:arcTo wR="2250" hR="2250" stAng="10800000" swAng="-5400000"/>
                  <a:lnTo>
                    <a:pt x="19350" y="419141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76240" y="2179800"/>
              <a:ext cx="1373400" cy="84960"/>
            </a:xfrm>
            <a:prstGeom prst="roundRect">
              <a:avLst>
                <a:gd name="adj" fmla="val 10417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968400" y="2932200"/>
            <a:ext cx="127080" cy="496800"/>
          </a:xfrm>
          <a:custGeom>
            <a:avLst/>
            <a:gdLst>
              <a:gd name="textAreaLeft" fmla="*/ 3600 w 127080"/>
              <a:gd name="textAreaRight" fmla="*/ 123480 w 127080"/>
              <a:gd name="textAreaTop" fmla="*/ 3600 h 496800"/>
              <a:gd name="textAreaBottom" fmla="*/ 493200 h 496800"/>
            </a:gdLst>
            <a:ahLst/>
            <a:rect l="textAreaLeft" t="textAreaTop" r="textAreaRight" b="textAreaBottom"/>
            <a:pathLst>
              <a:path w="21600" h="84264">
                <a:moveTo>
                  <a:pt x="2250" y="0"/>
                </a:moveTo>
                <a:arcTo wR="2250" hR="2250" stAng="16200000" swAng="-5400000"/>
                <a:lnTo>
                  <a:pt x="0" y="82014"/>
                </a:lnTo>
                <a:arcTo wR="2250" hR="2250" stAng="10800000" swAng="-5400000"/>
                <a:lnTo>
                  <a:pt x="19350" y="8426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095480" y="3008160"/>
            <a:ext cx="139680" cy="420840"/>
          </a:xfrm>
          <a:custGeom>
            <a:avLst/>
            <a:gdLst>
              <a:gd name="textAreaLeft" fmla="*/ 3960 w 139680"/>
              <a:gd name="textAreaRight" fmla="*/ 135720 w 13968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967">
                <a:moveTo>
                  <a:pt x="2250" y="0"/>
                </a:moveTo>
                <a:arcTo wR="2250" hR="2250" stAng="16200000" swAng="-5400000"/>
                <a:lnTo>
                  <a:pt x="0" y="62717"/>
                </a:lnTo>
                <a:arcTo wR="2250" hR="2250" stAng="10800000" swAng="-5400000"/>
                <a:lnTo>
                  <a:pt x="19350" y="64967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35160" y="2932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373040" y="291780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4"/>
          <a:stretch/>
        </p:blipFill>
        <p:spPr>
          <a:xfrm>
            <a:off x="5232240" y="3530520"/>
            <a:ext cx="6019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448" name=""/>
          <p:cNvGrpSpPr/>
          <p:nvPr/>
        </p:nvGrpSpPr>
        <p:grpSpPr>
          <a:xfrm>
            <a:off x="4848120" y="3336840"/>
            <a:ext cx="1277640" cy="1009800"/>
            <a:chOff x="4848120" y="3336840"/>
            <a:chExt cx="1277640" cy="1009800"/>
          </a:xfrm>
        </p:grpSpPr>
        <p:sp>
          <p:nvSpPr>
            <p:cNvPr id="1449" name=""/>
            <p:cNvSpPr/>
            <p:nvPr/>
          </p:nvSpPr>
          <p:spPr>
            <a:xfrm>
              <a:off x="485964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22080" y="3645720"/>
              <a:ext cx="103680" cy="7009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700920"/>
                <a:gd name="textAreaBottom" fmla="*/ 698040 h 700920"/>
              </a:gdLst>
              <a:ahLst/>
              <a:rect l="textAreaLeft" t="textAreaTop" r="textAreaRight" b="textAreaBottom"/>
              <a:pathLst>
                <a:path w="21600" h="145594">
                  <a:moveTo>
                    <a:pt x="2250" y="0"/>
                  </a:moveTo>
                  <a:arcTo wR="2250" hR="2250" stAng="16200000" swAng="-5400000"/>
                  <a:lnTo>
                    <a:pt x="0" y="143344"/>
                  </a:lnTo>
                  <a:arcTo wR="2250" hR="2250" stAng="10800000" swAng="-5400000"/>
                  <a:lnTo>
                    <a:pt x="19350" y="145594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056200" y="33602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41720" y="3336840"/>
              <a:ext cx="103680" cy="64512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645120"/>
                <a:gd name="textAreaBottom" fmla="*/ 642240 h 645120"/>
              </a:gdLst>
              <a:ahLst/>
              <a:rect l="textAreaLeft" t="textAreaTop" r="textAreaRight" b="textAreaBottom"/>
              <a:pathLst>
                <a:path w="21600" h="134010">
                  <a:moveTo>
                    <a:pt x="2250" y="0"/>
                  </a:moveTo>
                  <a:arcTo wR="2250" hR="2250" stAng="16200000" swAng="-5400000"/>
                  <a:lnTo>
                    <a:pt x="0" y="131760"/>
                  </a:lnTo>
                  <a:arcTo wR="2250" hR="2250" stAng="10800000" swAng="-5400000"/>
                  <a:lnTo>
                    <a:pt x="19350" y="13401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59640" y="3555720"/>
              <a:ext cx="1266120" cy="90000"/>
            </a:xfrm>
            <a:prstGeom prst="roundRect">
              <a:avLst>
                <a:gd name="adj" fmla="val 0"/>
              </a:avLst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4848120" y="3342240"/>
              <a:ext cx="1254960" cy="213120"/>
            </a:xfrm>
            <a:custGeom>
              <a:avLst/>
              <a:gdLst>
                <a:gd name="textAreaLeft" fmla="*/ 207360 w 1254960"/>
                <a:gd name="textAreaRight" fmla="*/ 1047600 w 1254960"/>
                <a:gd name="textAreaTop" fmla="*/ 35280 h 213120"/>
                <a:gd name="textAreaBottom" fmla="*/ 177840 h 2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23" y="21600"/>
                  </a:lnTo>
                  <a:lnTo>
                    <a:pt x="3277" y="2160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2874960" y="2228760"/>
            <a:ext cx="593640" cy="695520"/>
            <a:chOff x="2874960" y="2228760"/>
            <a:chExt cx="593640" cy="695520"/>
          </a:xfrm>
        </p:grpSpPr>
        <p:sp>
          <p:nvSpPr>
            <p:cNvPr id="1456" name=""/>
            <p:cNvSpPr/>
            <p:nvPr/>
          </p:nvSpPr>
          <p:spPr>
            <a:xfrm>
              <a:off x="2874960" y="2228760"/>
              <a:ext cx="593640" cy="695520"/>
            </a:xfrm>
            <a:custGeom>
              <a:avLst/>
              <a:gdLst>
                <a:gd name="textAreaLeft" fmla="*/ 28800 w 593640"/>
                <a:gd name="textAreaRight" fmla="*/ 564840 w 593640"/>
                <a:gd name="textAreaTop" fmla="*/ 28800 h 695520"/>
                <a:gd name="textAreaBottom" fmla="*/ 666720 h 695520"/>
              </a:gdLst>
              <a:ahLst/>
              <a:rect l="textAreaLeft" t="textAreaTop" r="textAreaRight" b="textAreaBottom"/>
              <a:pathLst>
                <a:path w="21600" h="25305">
                  <a:moveTo>
                    <a:pt x="3600" y="0"/>
                  </a:moveTo>
                  <a:arcTo wR="3600" hR="3600" stAng="16200000" swAng="-5400000"/>
                  <a:lnTo>
                    <a:pt x="0" y="21705"/>
                  </a:lnTo>
                  <a:arcTo wR="3600" hR="3600" stAng="10800000" swAng="-5400000"/>
                  <a:lnTo>
                    <a:pt x="18000" y="253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950920" y="2313720"/>
              <a:ext cx="441720" cy="539280"/>
            </a:xfrm>
            <a:custGeom>
              <a:avLst/>
              <a:gdLst>
                <a:gd name="textAreaLeft" fmla="*/ 21240 w 441720"/>
                <a:gd name="textAreaRight" fmla="*/ 420480 w 441720"/>
                <a:gd name="textAreaTop" fmla="*/ 21240 h 539280"/>
                <a:gd name="textAreaBottom" fmla="*/ 518040 h 539280"/>
              </a:gdLst>
              <a:ahLst/>
              <a:rect l="textAreaLeft" t="textAreaTop" r="textAreaRight" b="textAreaBottom"/>
              <a:pathLst>
                <a:path w="21600" h="26367">
                  <a:moveTo>
                    <a:pt x="3600" y="0"/>
                  </a:moveTo>
                  <a:arcTo wR="3600" hR="3600" stAng="16200000" swAng="-5400000"/>
                  <a:lnTo>
                    <a:pt x="0" y="22767"/>
                  </a:lnTo>
                  <a:arcTo wR="3600" hR="3600" stAng="10800000" swAng="-5400000"/>
                  <a:lnTo>
                    <a:pt x="18000" y="263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8" name="" descr=""/>
            <p:cNvPicPr/>
            <p:nvPr/>
          </p:nvPicPr>
          <p:blipFill>
            <a:blip r:embed="rId5"/>
            <a:stretch/>
          </p:blipFill>
          <p:spPr>
            <a:xfrm>
              <a:off x="2996640" y="2390400"/>
              <a:ext cx="34416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9" name=""/>
          <p:cNvSpPr/>
          <p:nvPr/>
        </p:nvSpPr>
        <p:spPr>
          <a:xfrm>
            <a:off x="1881360" y="233676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019240" y="23223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6"/>
          <a:stretch/>
        </p:blipFill>
        <p:spPr>
          <a:xfrm rot="15987000">
            <a:off x="2525040" y="4517280"/>
            <a:ext cx="877680" cy="8856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7"/>
          <a:stretch/>
        </p:blipFill>
        <p:spPr>
          <a:xfrm rot="9263400">
            <a:off x="3160800" y="4520880"/>
            <a:ext cx="676080" cy="74124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8"/>
          <a:stretch/>
        </p:blipFill>
        <p:spPr>
          <a:xfrm>
            <a:off x="4145040" y="3125880"/>
            <a:ext cx="507960" cy="41436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9"/>
          <a:stretch/>
        </p:blipFill>
        <p:spPr>
          <a:xfrm rot="772200">
            <a:off x="3161880" y="2563560"/>
            <a:ext cx="8143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2411280" y="3173400"/>
            <a:ext cx="1557360" cy="1931760"/>
            <a:chOff x="2411280" y="3173400"/>
            <a:chExt cx="1557360" cy="1931760"/>
          </a:xfrm>
        </p:grpSpPr>
        <p:sp>
          <p:nvSpPr>
            <p:cNvPr id="1466" name=""/>
            <p:cNvSpPr/>
            <p:nvPr/>
          </p:nvSpPr>
          <p:spPr>
            <a:xfrm rot="16200000">
              <a:off x="2855520" y="2925360"/>
              <a:ext cx="680400" cy="117648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10800000">
              <a:off x="2445840" y="3853800"/>
              <a:ext cx="1499760" cy="1049040"/>
            </a:xfrm>
            <a:custGeom>
              <a:avLst/>
              <a:gdLst>
                <a:gd name="textAreaLeft" fmla="*/ 211680 w 1499760"/>
                <a:gd name="textAreaRight" fmla="*/ 1288080 w 1499760"/>
                <a:gd name="textAreaTop" fmla="*/ 147960 h 1049040"/>
                <a:gd name="textAreaBottom" fmla="*/ 90108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2" y="21600"/>
                  </a:lnTo>
                  <a:lnTo>
                    <a:pt x="2338" y="21600"/>
                  </a:lnTo>
                  <a:close/>
                </a:path>
              </a:pathLst>
            </a:custGeom>
            <a:solidFill>
              <a:srgbClr val="ff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16200000">
              <a:off x="2843640" y="3815640"/>
              <a:ext cx="680400" cy="1522800"/>
            </a:xfrm>
            <a:prstGeom prst="flowChartDelay">
              <a:avLst/>
            </a:pr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11280" y="4237560"/>
              <a:ext cx="103680" cy="86400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4000"/>
                <a:gd name="textAreaBottom" fmla="*/ 861120 h 864000"/>
              </a:gdLst>
              <a:ahLst/>
              <a:rect l="textAreaLeft" t="textAreaTop" r="textAreaRight" b="textAreaBottom"/>
              <a:pathLst>
                <a:path w="21600" h="179452">
                  <a:moveTo>
                    <a:pt x="2250" y="0"/>
                  </a:moveTo>
                  <a:arcTo wR="2250" hR="2250" stAng="16200000" swAng="-5400000"/>
                  <a:lnTo>
                    <a:pt x="0" y="177202"/>
                  </a:lnTo>
                  <a:arcTo wR="2250" hR="2250" stAng="10800000" swAng="-5400000"/>
                  <a:lnTo>
                    <a:pt x="19350" y="179452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64960" y="4241520"/>
              <a:ext cx="103680" cy="863640"/>
            </a:xfrm>
            <a:custGeom>
              <a:avLst/>
              <a:gdLst>
                <a:gd name="textAreaLeft" fmla="*/ 2880 w 103680"/>
                <a:gd name="textAreaRight" fmla="*/ 100800 w 103680"/>
                <a:gd name="textAreaTop" fmla="*/ 2880 h 863640"/>
                <a:gd name="textAreaBottom" fmla="*/ 860760 h 863640"/>
              </a:gdLst>
              <a:ahLst/>
              <a:rect l="textAreaLeft" t="textAreaTop" r="textAreaRight" b="textAreaBottom"/>
              <a:pathLst>
                <a:path w="21600" h="179377">
                  <a:moveTo>
                    <a:pt x="2250" y="0"/>
                  </a:moveTo>
                  <a:arcTo wR="2250" hR="2250" stAng="16200000" swAng="-5400000"/>
                  <a:lnTo>
                    <a:pt x="0" y="177127"/>
                  </a:lnTo>
                  <a:arcTo wR="2250" hR="2250" stAng="10800000" swAng="-5400000"/>
                  <a:lnTo>
                    <a:pt x="19350" y="179377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607480" y="3226320"/>
              <a:ext cx="80640" cy="61704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040"/>
                <a:gd name="textAreaBottom" fmla="*/ 614880 h 617040"/>
              </a:gdLst>
              <a:ahLst/>
              <a:rect l="textAreaLeft" t="textAreaTop" r="textAreaRight" b="textAreaBottom"/>
              <a:pathLst>
                <a:path w="21600" h="164640">
                  <a:moveTo>
                    <a:pt x="2250" y="0"/>
                  </a:moveTo>
                  <a:arcTo wR="2250" hR="2250" stAng="16200000" swAng="-5400000"/>
                  <a:lnTo>
                    <a:pt x="0" y="162390"/>
                  </a:lnTo>
                  <a:arcTo wR="2250" hR="2250" stAng="10800000" swAng="-5400000"/>
                  <a:lnTo>
                    <a:pt x="19350" y="164640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703320" y="3229920"/>
              <a:ext cx="80640" cy="617400"/>
            </a:xfrm>
            <a:custGeom>
              <a:avLst/>
              <a:gdLst>
                <a:gd name="textAreaLeft" fmla="*/ 2160 w 80640"/>
                <a:gd name="textAreaRight" fmla="*/ 78480 w 80640"/>
                <a:gd name="textAreaTop" fmla="*/ 2160 h 617400"/>
                <a:gd name="textAreaBottom" fmla="*/ 615240 h 617400"/>
              </a:gdLst>
              <a:ahLst/>
              <a:rect l="textAreaLeft" t="textAreaTop" r="textAreaRight" b="textAreaBottom"/>
              <a:pathLst>
                <a:path w="21600" h="164736">
                  <a:moveTo>
                    <a:pt x="2250" y="0"/>
                  </a:moveTo>
                  <a:arcTo wR="2250" hR="2250" stAng="16200000" swAng="-5400000"/>
                  <a:lnTo>
                    <a:pt x="0" y="162486"/>
                  </a:lnTo>
                  <a:arcTo wR="2250" hR="2250" stAng="10800000" swAng="-5400000"/>
                  <a:lnTo>
                    <a:pt x="19350" y="164736"/>
                  </a:lnTo>
                  <a:arcTo wR="2250" hR="2250" stAng="5400000" swAng="-5400000"/>
                  <a:lnTo>
                    <a:pt x="21600" y="2250"/>
                  </a:lnTo>
                  <a:arcTo wR="2250" hR="2250" stAng="0" swAng="-5400000"/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3" name="119715343095551137Machovka_radio.svg.thumb" descr="Radio Clip Art"/>
          <p:cNvPicPr/>
          <p:nvPr/>
        </p:nvPicPr>
        <p:blipFill>
          <a:blip r:embed="rId10"/>
          <a:stretch/>
        </p:blipFill>
        <p:spPr>
          <a:xfrm>
            <a:off x="2687760" y="3481560"/>
            <a:ext cx="6109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5033880" y="4613400"/>
            <a:ext cx="1225440" cy="537840"/>
            <a:chOff x="5033880" y="4613400"/>
            <a:chExt cx="1225440" cy="537840"/>
          </a:xfrm>
        </p:grpSpPr>
        <p:sp>
          <p:nvSpPr>
            <p:cNvPr id="1475" name=""/>
            <p:cNvSpPr/>
            <p:nvPr/>
          </p:nvSpPr>
          <p:spPr>
            <a:xfrm>
              <a:off x="5211000" y="4613400"/>
              <a:ext cx="871200" cy="537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33880" y="4613400"/>
              <a:ext cx="174960" cy="537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82200" y="4613400"/>
              <a:ext cx="175320" cy="537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12440" y="4613400"/>
              <a:ext cx="871560" cy="53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35320" y="4613400"/>
              <a:ext cx="175320" cy="53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084360" y="4613400"/>
              <a:ext cx="174960" cy="53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1" name="" descr=""/>
          <p:cNvPicPr/>
          <p:nvPr/>
        </p:nvPicPr>
        <p:blipFill>
          <a:blip r:embed="rId17"/>
          <a:stretch/>
        </p:blipFill>
        <p:spPr>
          <a:xfrm rot="720600">
            <a:off x="1372680" y="2592000"/>
            <a:ext cx="457200" cy="30960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18"/>
          <a:stretch/>
        </p:blipFill>
        <p:spPr>
          <a:xfrm>
            <a:off x="1101600" y="3589200"/>
            <a:ext cx="282600" cy="42876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19"/>
          <a:stretch/>
        </p:blipFill>
        <p:spPr>
          <a:xfrm rot="20594400">
            <a:off x="4075200" y="4502160"/>
            <a:ext cx="831600" cy="59220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20"/>
          <a:stretch/>
        </p:blipFill>
        <p:spPr>
          <a:xfrm>
            <a:off x="1019160" y="2298600"/>
            <a:ext cx="365040" cy="5209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>
            <a:off x="1741320" y="3611520"/>
            <a:ext cx="140040" cy="420840"/>
          </a:xfrm>
          <a:custGeom>
            <a:avLst/>
            <a:gdLst>
              <a:gd name="textAreaLeft" fmla="*/ 3960 w 140040"/>
              <a:gd name="textAreaRight" fmla="*/ 136080 w 140040"/>
              <a:gd name="textAreaTop" fmla="*/ 3960 h 420840"/>
              <a:gd name="textAreaBottom" fmla="*/ 416880 h 420840"/>
            </a:gdLst>
            <a:ahLst/>
            <a:rect l="textAreaLeft" t="textAreaTop" r="textAreaRight" b="textAreaBottom"/>
            <a:pathLst>
              <a:path w="21600" h="64800">
                <a:moveTo>
                  <a:pt x="2250" y="0"/>
                </a:moveTo>
                <a:arcTo wR="2250" hR="2250" stAng="16200000" swAng="-5400000"/>
                <a:lnTo>
                  <a:pt x="0" y="62550"/>
                </a:lnTo>
                <a:arcTo wR="2250" hR="2250" stAng="10800000" swAng="-5400000"/>
                <a:lnTo>
                  <a:pt x="19350" y="6480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81360" y="3535200"/>
            <a:ext cx="137880" cy="511200"/>
          </a:xfrm>
          <a:custGeom>
            <a:avLst/>
            <a:gdLst>
              <a:gd name="textAreaLeft" fmla="*/ 3960 w 137880"/>
              <a:gd name="textAreaRight" fmla="*/ 133920 w 13788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931">
                <a:moveTo>
                  <a:pt x="2250" y="0"/>
                </a:moveTo>
                <a:arcTo wR="2250" hR="2250" stAng="16200000" swAng="-5400000"/>
                <a:lnTo>
                  <a:pt x="0" y="77681"/>
                </a:lnTo>
                <a:arcTo wR="2250" hR="2250" stAng="10800000" swAng="-5400000"/>
                <a:lnTo>
                  <a:pt x="19350" y="7993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019240" y="3521160"/>
            <a:ext cx="138240" cy="511200"/>
          </a:xfrm>
          <a:custGeom>
            <a:avLst/>
            <a:gdLst>
              <a:gd name="textAreaLeft" fmla="*/ 3960 w 138240"/>
              <a:gd name="textAreaRight" fmla="*/ 134280 w 138240"/>
              <a:gd name="textAreaTop" fmla="*/ 3960 h 511200"/>
              <a:gd name="textAreaBottom" fmla="*/ 507240 h 511200"/>
            </a:gdLst>
            <a:ahLst/>
            <a:rect l="textAreaLeft" t="textAreaTop" r="textAreaRight" b="textAreaBottom"/>
            <a:pathLst>
              <a:path w="21600" h="79724">
                <a:moveTo>
                  <a:pt x="2250" y="0"/>
                </a:moveTo>
                <a:arcTo wR="2250" hR="2250" stAng="16200000" swAng="-5400000"/>
                <a:lnTo>
                  <a:pt x="0" y="77474"/>
                </a:lnTo>
                <a:arcTo wR="2250" hR="2250" stAng="10800000" swAng="-5400000"/>
                <a:lnTo>
                  <a:pt x="19350" y="7972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21"/>
          <a:stretch/>
        </p:blipFill>
        <p:spPr>
          <a:xfrm>
            <a:off x="5106960" y="2131920"/>
            <a:ext cx="855720" cy="749520"/>
          </a:xfrm>
          <a:prstGeom prst="rect">
            <a:avLst/>
          </a:prstGeom>
          <a:ln w="0">
            <a:noFill/>
          </a:ln>
        </p:spPr>
      </p:pic>
      <p:sp>
        <p:nvSpPr>
          <p:cNvPr id="1489" name=""/>
          <p:cNvSpPr/>
          <p:nvPr/>
        </p:nvSpPr>
        <p:spPr>
          <a:xfrm>
            <a:off x="498600" y="547560"/>
            <a:ext cx="1008000" cy="28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7356960" y="1799280"/>
            <a:ext cx="1543320" cy="1601280"/>
            <a:chOff x="7356960" y="1799280"/>
            <a:chExt cx="1543320" cy="1601280"/>
          </a:xfrm>
        </p:grpSpPr>
        <p:sp>
          <p:nvSpPr>
            <p:cNvPr id="1491" name=""/>
            <p:cNvSpPr/>
            <p:nvPr/>
          </p:nvSpPr>
          <p:spPr>
            <a:xfrm rot="1036200">
              <a:off x="7740000" y="195696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036200">
              <a:off x="7468200" y="228852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036200">
              <a:off x="7591680" y="241308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036200">
              <a:off x="8294400" y="1947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5" name=""/>
            <p:cNvCxnSpPr/>
            <p:nvPr/>
          </p:nvCxnSpPr>
          <p:spPr>
            <a:xfrm flipH="1">
              <a:off x="8299440" y="1970280"/>
              <a:ext cx="10836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496" name=""/>
          <p:cNvGrpSpPr/>
          <p:nvPr/>
        </p:nvGrpSpPr>
        <p:grpSpPr>
          <a:xfrm>
            <a:off x="7368480" y="3375000"/>
            <a:ext cx="1535040" cy="1610640"/>
            <a:chOff x="7368480" y="3375000"/>
            <a:chExt cx="1535040" cy="1610640"/>
          </a:xfrm>
        </p:grpSpPr>
        <p:sp>
          <p:nvSpPr>
            <p:cNvPr id="1497" name=""/>
            <p:cNvSpPr/>
            <p:nvPr/>
          </p:nvSpPr>
          <p:spPr>
            <a:xfrm rot="20540400">
              <a:off x="7403760" y="35359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20540400">
              <a:off x="7509240" y="38703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540400">
              <a:off x="7632720" y="39938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20540400">
              <a:off x="7867080" y="35222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1" name=""/>
            <p:cNvCxnSpPr/>
            <p:nvPr/>
          </p:nvCxnSpPr>
          <p:spPr>
            <a:xfrm flipH="1">
              <a:off x="7909560" y="35236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1502" name=""/>
          <p:cNvGrpSpPr/>
          <p:nvPr/>
        </p:nvGrpSpPr>
        <p:grpSpPr>
          <a:xfrm>
            <a:off x="7342560" y="4896360"/>
            <a:ext cx="1543320" cy="1601280"/>
            <a:chOff x="7342560" y="4896360"/>
            <a:chExt cx="1543320" cy="1601280"/>
          </a:xfrm>
        </p:grpSpPr>
        <p:sp>
          <p:nvSpPr>
            <p:cNvPr id="1503" name=""/>
            <p:cNvSpPr/>
            <p:nvPr/>
          </p:nvSpPr>
          <p:spPr>
            <a:xfrm rot="1036200">
              <a:off x="7725600" y="505404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036200">
              <a:off x="7453800" y="538560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036200">
              <a:off x="7577280" y="551016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036200">
              <a:off x="8280360" y="504432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7" name=""/>
            <p:cNvCxnSpPr/>
            <p:nvPr/>
          </p:nvCxnSpPr>
          <p:spPr>
            <a:xfrm flipH="1">
              <a:off x="8285400" y="5067360"/>
              <a:ext cx="108000" cy="9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08" name=""/>
          <p:cNvSpPr txBox="1"/>
          <p:nvPr/>
        </p:nvSpPr>
        <p:spPr>
          <a:xfrm rot="1245000">
            <a:off x="7642080" y="2475000"/>
            <a:ext cx="88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09" name=""/>
          <p:cNvSpPr txBox="1"/>
          <p:nvPr/>
        </p:nvSpPr>
        <p:spPr>
          <a:xfrm rot="20512200">
            <a:off x="7956720" y="4149360"/>
            <a:ext cx="43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10" name=""/>
          <p:cNvSpPr txBox="1"/>
          <p:nvPr/>
        </p:nvSpPr>
        <p:spPr>
          <a:xfrm rot="1072200">
            <a:off x="7667280" y="5589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un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311240" y="280800"/>
            <a:ext cx="1535040" cy="1610640"/>
            <a:chOff x="7311240" y="280800"/>
            <a:chExt cx="1535040" cy="1610640"/>
          </a:xfrm>
        </p:grpSpPr>
        <p:sp>
          <p:nvSpPr>
            <p:cNvPr id="1512" name=""/>
            <p:cNvSpPr/>
            <p:nvPr/>
          </p:nvSpPr>
          <p:spPr>
            <a:xfrm rot="20540400">
              <a:off x="7346520" y="441720"/>
              <a:ext cx="1124640" cy="409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20540400">
              <a:off x="7452000" y="776160"/>
              <a:ext cx="1281240" cy="9428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0540400">
              <a:off x="7575480" y="899640"/>
              <a:ext cx="1038240" cy="69516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20540400">
              <a:off x="7809840" y="428040"/>
              <a:ext cx="119880" cy="142560"/>
            </a:xfrm>
            <a:prstGeom prst="ellipse">
              <a:avLst/>
            </a:prstGeom>
            <a:solidFill>
              <a:srgbClr val="a5a5a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6" name=""/>
            <p:cNvCxnSpPr/>
            <p:nvPr/>
          </p:nvCxnSpPr>
          <p:spPr>
            <a:xfrm flipH="1">
              <a:off x="7852320" y="429480"/>
              <a:ext cx="33120" cy="14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17" name=""/>
          <p:cNvSpPr txBox="1"/>
          <p:nvPr/>
        </p:nvSpPr>
        <p:spPr>
          <a:xfrm rot="20512200">
            <a:off x="7594560" y="1052640"/>
            <a:ext cx="100476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h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250920" y="595008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guitar is _______ of the bedside tabl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482920" y="6021360"/>
            <a:ext cx="136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 fro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2843280" y="549360"/>
            <a:ext cx="2016000" cy="647640"/>
            <a:chOff x="2843280" y="549360"/>
            <a:chExt cx="2016000" cy="647640"/>
          </a:xfrm>
        </p:grpSpPr>
        <p:sp>
          <p:nvSpPr>
            <p:cNvPr id="1521" name=""/>
            <p:cNvSpPr/>
            <p:nvPr/>
          </p:nvSpPr>
          <p:spPr>
            <a:xfrm>
              <a:off x="2843280" y="549360"/>
              <a:ext cx="201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3348000" y="620640"/>
              <a:ext cx="1008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Great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523" name="">
            <a:hlinkClick r:id="" action="ppaction://hlinkshowjump?jump=nextslide"/>
          </p:cNvPr>
          <p:cNvSpPr/>
          <p:nvPr/>
        </p:nvSpPr>
        <p:spPr>
          <a:xfrm>
            <a:off x="6443640" y="404640"/>
            <a:ext cx="720720" cy="576360"/>
          </a:xfrm>
          <a:prstGeom prst="rightArrow">
            <a:avLst>
              <a:gd name="adj1" fmla="val 40500"/>
              <a:gd name="adj2" fmla="val 56462"/>
            </a:avLst>
          </a:prstGeom>
          <a:blipFill rotWithShape="0">
            <a:blip r:embed="rId2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0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0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50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0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2:59:00Z</dcterms:created>
  <dc:creator>Sandra</dc:creator>
  <dc:description/>
  <dc:language>en-US</dc:language>
  <cp:lastModifiedBy>Sandra</cp:lastModifiedBy>
  <dcterms:modified xsi:type="dcterms:W3CDTF">2009-11-24T14:12:58Z</dcterms:modified>
  <cp:revision>5</cp:revision>
  <dc:subject/>
  <dc:title>Diapositivo 1</dc:title>
</cp:coreProperties>
</file>